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12FC-7493-4ED2-9C32-7883AB16D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1966-94C0-4711-AE4D-DC5D39D11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F2244E-D101-4B4F-B0D8-E176A0DC5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1286E1-6436-4392-9942-A5197375B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0B3046-239A-452E-BB94-148AAC348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3F699B-3DD5-4A77-A9CA-9025FF19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05F5F5-D326-4FAC-A709-A76A443B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09F6F6-229D-4B82-BC74-4DF64A54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08FF10-F8ED-4446-9E2D-1CA76649E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5226DC-0599-4212-B3F4-021B8EAA2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791702-A36D-41C9-AEC0-9C5E4389E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13F9C7-789A-486B-BE6D-AB89908EF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9298-17FF-47E3-BDD8-1D5BB0072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F88ECC-012E-47B8-B679-F5C71FC33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5C4488-50E1-4D46-8EBA-1FB0E3345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B94995-95C3-4CCC-8394-9EF381E13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734393-F742-46CE-A8EA-25B7B8A1A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0F7680-F57A-45DD-8725-BE191C708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F17F81-DD70-48FF-BC5C-50AF9A85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46A04A-8FF3-4CD2-979D-92846C09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D05760-898E-4C7D-BB9A-1E9C1FD41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236759-E992-4EFF-84DD-47897BF2B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9717DD-1820-4B0B-BC70-04B024F0A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1A50-A9BC-478A-9301-FBD523108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935AD2-5409-4D0F-B429-5BD8B1F9B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53D96-3A27-41F9-AB0A-1110D119E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F2944-6B57-41D1-AAD4-3E057C05E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03CC2-491D-478D-8BA2-78D4995EA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777D5-DC2D-4CA0-B8CE-EB947E177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E0D3F-A92B-4B86-826D-1EA069E55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3C605-A93A-481F-8E24-3578B6B5B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4E0AE-81CD-448A-8733-1B1D44F4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57FF-BBB7-43A7-9FFE-E42B78C19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363FE-4E6B-4035-B528-9FDFB447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57F04-EE73-4BD7-988E-075FE205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E6E80-5EC1-494F-8C21-4C2D2C48B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DEDD0-792C-4FF2-93DC-5BB872DC4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26555-9EE1-44AC-B85A-ECAC1C495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209E4-A08E-495E-A156-A80A4C527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F7FF4-C379-4720-8B3A-0B320F2C7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3289A-CC41-47BF-BD50-3D7E65465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F3838-8F19-459F-8469-6347C939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51E6E-8502-4C4A-ACA9-AA5787F8A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08B0-B4B1-4531-A173-25972B303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8C24A-04D8-4446-967B-ABB8D06DF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476F4-9D5A-4D2D-9DB7-5B861A5A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2D88B-0242-494B-84D3-B9B95E87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671B8-2D9B-4433-B522-84F923DE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50FB1-82D2-4AFA-A086-4758672D9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89BBC-27A6-4D62-AE7D-A2C270F40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1F573-760B-484A-8F82-BF7586D15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4E947-9FA4-4AD3-9D03-09168FE1B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12537-D5F4-4A72-945B-5558E21A5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C96B3-32C6-4038-B01F-856411880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61D4-03A3-487B-B107-C3629D776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3FC26-A88D-44C9-897E-976876666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CBE41-2FE8-4D5F-B5BF-05C53B32D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80D04-F532-4F57-A916-0746E9827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B4F5F-C651-4246-9D25-D48B293F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504AE-4A43-452E-88C9-20BF8AFE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3E806-0833-4FAF-A35E-9AA891AD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372E9-D804-4A92-BF06-D6E28E949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5A85A-E557-4D59-AB31-41303DB86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5DE11-645B-4E58-A97A-BFE36B6FB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52832-86F8-4DCA-BEF6-3834E1E8B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678F-458C-4528-97B2-08E1D92CB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99023-39DD-482F-9806-1A119F396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D676A-A0BB-4FE0-B501-962778EE7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F6A42-A2F0-4044-9AD4-37ECB8575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279ED-C4FC-459D-B449-488B1E49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376A8-1BA8-4082-8938-7485D1E59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39D16-2689-4304-988C-CD4A67FE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B9D18-2123-41E8-AB91-37F7FAFE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236BA-22CD-4A84-B286-CEA21879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45169-F185-4A4A-AE6E-5F6FD686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9090E-54F7-4390-A506-50C5C5AD9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3D79-8DB4-4250-855D-D85729015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E7350-2642-402F-8E8B-B2686AED8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3E065A-3455-4A2A-86D1-2E8FC0FCB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8D729-F659-49A9-A801-4A2E64478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70A1A-6DB0-4139-92C1-9BB189462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70B3A-1F0C-4E08-AE10-20BC0C5E1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5AB1A-D69A-44D0-A7E7-DA96C6F92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C6AD6B-0AAD-45C0-AA7C-D4CF46FBB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561F56-B356-43BA-8E9B-294B25D1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B4D3E-D61C-4D16-A97C-EE6850C63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F4AB7-52A7-457A-B757-B1C3A2CD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EDDA-5BC9-4580-A1AA-6ADA34B7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744A90-E7B0-4627-A394-B93A0D66C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58E968-E0E7-4689-830A-31C093655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38BC8-250D-49B2-87A2-E8FFE9AFC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2DFCB4-2035-4D2A-8522-0391A2388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CF788-7485-4712-B914-8EF71C8EC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41A0C-0D7C-4355-9FA7-B90F06AB7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4C7981-C0A3-4835-BDB9-AE2F3A8E0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89F35A-01B4-4F6C-B701-DDA611765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01EFC-E175-4BC6-8214-0A8BB987F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6B64A3-FAE3-4F9F-A76F-FF9DF18B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B8E3-A1F8-45B4-99EB-575CA501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BCF6F-13D4-4321-A8CE-275BDEFC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7B6F4-0B04-40FB-800B-EAD14AE2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B43DD8-D5DF-4DC4-A387-1DF32A940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9C7438-AA5A-478E-9E46-B0B1114BA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D2E4B-732B-4096-8E5C-CAD9E36B2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7675B3-0FA8-4C25-B74E-75BB341DA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691E6C-29D2-4277-8411-70A32D5E0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B2E30F-9B84-4FDE-9750-5C4B228C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3755E-1D82-4D14-83C3-BFFF7A976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3ACEC6-20AC-4440-9BBE-93B2D1F44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1769-5898-4876-A198-B3C2A354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0D149F-A376-49FF-BE79-646AED443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92B58D-A250-42E4-960F-46933D39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EEAB05-DDB3-44D1-9C82-CA933CCE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3A125B-C6DC-4B16-8644-493DA357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5335E3-6C6E-46EF-B9C2-389428511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FB9283-A416-4E14-BA35-54281398B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C5A75A-1010-43F6-8C1D-CE2E7E2DD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FB591F-BD6F-4E70-ABB8-FCD5A17D8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692045-4174-4527-93A6-E0AB57C65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0FDD48-7DF4-4492-8621-B1C73D4D8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22E77-D9D6-4D08-AFD5-FE08206F8545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449" name="Freeform 9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450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Rectangle 10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1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DD1BA-66C3-4A66-A56A-95761D65245C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6" descr="2.png"/>
          <p:cNvPicPr/>
          <p:nvPr/>
        </p:nvPicPr>
        <p:blipFill>
          <a:blip r:embed="rId2"/>
          <a:stretch/>
        </p:blipFill>
        <p:spPr>
          <a:xfrm>
            <a:off x="5072040" y="3571920"/>
            <a:ext cx="3718080" cy="3286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0"/>
          <p:cNvGrpSpPr/>
          <p:nvPr/>
        </p:nvGrpSpPr>
        <p:grpSpPr>
          <a:xfrm>
            <a:off x="7287480" y="716400"/>
            <a:ext cx="867600" cy="1688400"/>
            <a:chOff x="7287480" y="716400"/>
            <a:chExt cx="867600" cy="1688400"/>
          </a:xfrm>
        </p:grpSpPr>
        <p:sp>
          <p:nvSpPr>
            <p:cNvPr id="44" name="Rectangle 19"/>
            <p:cNvSpPr/>
            <p:nvPr/>
          </p:nvSpPr>
          <p:spPr>
            <a:xfrm rot="360000">
              <a:off x="7868880" y="87876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8"/>
            <p:cNvGrpSpPr/>
            <p:nvPr/>
          </p:nvGrpSpPr>
          <p:grpSpPr>
            <a:xfrm>
              <a:off x="7287480" y="716400"/>
              <a:ext cx="669960" cy="1688400"/>
              <a:chOff x="7287480" y="716400"/>
              <a:chExt cx="669960" cy="1688400"/>
            </a:xfrm>
          </p:grpSpPr>
          <p:sp>
            <p:nvSpPr>
              <p:cNvPr id="46" name="Rectangle 16"/>
              <p:cNvSpPr/>
              <p:nvPr/>
            </p:nvSpPr>
            <p:spPr>
              <a:xfrm rot="360000">
                <a:off x="7425720" y="740880"/>
                <a:ext cx="50292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17"/>
              <p:cNvSpPr/>
              <p:nvPr/>
            </p:nvSpPr>
            <p:spPr>
              <a:xfrm rot="360000">
                <a:off x="7341840" y="1310760"/>
                <a:ext cx="50292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Group 26"/>
          <p:cNvGrpSpPr/>
          <p:nvPr/>
        </p:nvGrpSpPr>
        <p:grpSpPr>
          <a:xfrm>
            <a:off x="7856640" y="1067400"/>
            <a:ext cx="966600" cy="1712880"/>
            <a:chOff x="7856640" y="1067400"/>
            <a:chExt cx="966600" cy="1712880"/>
          </a:xfrm>
        </p:grpSpPr>
        <p:sp>
          <p:nvSpPr>
            <p:cNvPr id="49" name="Rectangle 22"/>
            <p:cNvSpPr/>
            <p:nvPr/>
          </p:nvSpPr>
          <p:spPr>
            <a:xfrm rot="600000">
              <a:off x="8488440" y="124632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4"/>
            <p:cNvSpPr/>
            <p:nvPr/>
          </p:nvSpPr>
          <p:spPr>
            <a:xfrm rot="600000">
              <a:off x="8082000" y="110664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25"/>
            <p:cNvSpPr/>
            <p:nvPr/>
          </p:nvSpPr>
          <p:spPr>
            <a:xfrm rot="600000">
              <a:off x="7945560" y="167436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41"/>
          <p:cNvGrpSpPr/>
          <p:nvPr/>
        </p:nvGrpSpPr>
        <p:grpSpPr>
          <a:xfrm>
            <a:off x="0" y="1809720"/>
            <a:ext cx="9144000" cy="120600"/>
            <a:chOff x="0" y="1809720"/>
            <a:chExt cx="9144000" cy="120600"/>
          </a:xfrm>
        </p:grpSpPr>
        <p:sp>
          <p:nvSpPr>
            <p:cNvPr id="53" name="Straight Connector 31"/>
            <p:cNvSpPr/>
            <p:nvPr/>
          </p:nvSpPr>
          <p:spPr>
            <a:xfrm>
              <a:off x="0" y="180972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33"/>
            <p:cNvSpPr/>
            <p:nvPr/>
          </p:nvSpPr>
          <p:spPr>
            <a:xfrm>
              <a:off x="0" y="1865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traight Connector 34"/>
            <p:cNvSpPr/>
            <p:nvPr/>
          </p:nvSpPr>
          <p:spPr>
            <a:xfrm>
              <a:off x="0" y="19288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Group 277" descr=""/>
          <p:cNvPicPr/>
          <p:nvPr/>
        </p:nvPicPr>
        <p:blipFill>
          <a:blip r:embed="rId3"/>
          <a:stretch/>
        </p:blipFill>
        <p:spPr>
          <a:xfrm>
            <a:off x="438120" y="2298600"/>
            <a:ext cx="1414440" cy="1498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E95BC-EB54-4FCD-A725-0774274D16D2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6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roup 277" descr=""/>
          <p:cNvPicPr/>
          <p:nvPr/>
        </p:nvPicPr>
        <p:blipFill>
          <a:blip r:embed="rId2"/>
          <a:stretch/>
        </p:blipFill>
        <p:spPr>
          <a:xfrm>
            <a:off x="317520" y="212760"/>
            <a:ext cx="96840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103" name="Freeform 14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104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16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D8F0F-C498-4797-9794-CDADDD63EBF8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>
            <a:off x="0" y="4718160"/>
            <a:ext cx="9144000" cy="17287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7031880" y="3440520"/>
            <a:ext cx="867960" cy="1688400"/>
            <a:chOff x="7031880" y="3440520"/>
            <a:chExt cx="867960" cy="1688400"/>
          </a:xfrm>
        </p:grpSpPr>
        <p:sp>
          <p:nvSpPr>
            <p:cNvPr id="151" name="Rectangle 7"/>
            <p:cNvSpPr/>
            <p:nvPr/>
          </p:nvSpPr>
          <p:spPr>
            <a:xfrm rot="360000">
              <a:off x="7613640" y="360288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18"/>
            <p:cNvGrpSpPr/>
            <p:nvPr/>
          </p:nvGrpSpPr>
          <p:grpSpPr>
            <a:xfrm>
              <a:off x="7031880" y="3440520"/>
              <a:ext cx="670320" cy="1688400"/>
              <a:chOff x="7031880" y="3440520"/>
              <a:chExt cx="670320" cy="1688400"/>
            </a:xfrm>
          </p:grpSpPr>
          <p:sp>
            <p:nvSpPr>
              <p:cNvPr id="153" name="Rectangle 9"/>
              <p:cNvSpPr/>
              <p:nvPr/>
            </p:nvSpPr>
            <p:spPr>
              <a:xfrm rot="360000">
                <a:off x="7170120" y="3465000"/>
                <a:ext cx="50328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 rot="360000">
                <a:off x="7086240" y="4034880"/>
                <a:ext cx="50328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Group 11"/>
          <p:cNvGrpSpPr/>
          <p:nvPr/>
        </p:nvGrpSpPr>
        <p:grpSpPr>
          <a:xfrm>
            <a:off x="7620120" y="3791520"/>
            <a:ext cx="966600" cy="1712880"/>
            <a:chOff x="7620120" y="3791520"/>
            <a:chExt cx="966600" cy="1712880"/>
          </a:xfrm>
        </p:grpSpPr>
        <p:sp>
          <p:nvSpPr>
            <p:cNvPr id="156" name="Rectangle 12"/>
            <p:cNvSpPr/>
            <p:nvPr/>
          </p:nvSpPr>
          <p:spPr>
            <a:xfrm rot="600000">
              <a:off x="8251920" y="397044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 rot="600000">
              <a:off x="7845480" y="383076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 rot="600000">
              <a:off x="7709040" y="439848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0" y="4575240"/>
            <a:ext cx="9144000" cy="120600"/>
            <a:chOff x="0" y="4575240"/>
            <a:chExt cx="9144000" cy="120600"/>
          </a:xfrm>
        </p:grpSpPr>
        <p:sp>
          <p:nvSpPr>
            <p:cNvPr id="160" name="Straight Connector 15"/>
            <p:cNvSpPr/>
            <p:nvPr/>
          </p:nvSpPr>
          <p:spPr>
            <a:xfrm>
              <a:off x="0" y="45752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>
              <a:off x="0" y="46306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Straight Connector 17"/>
            <p:cNvSpPr/>
            <p:nvPr/>
          </p:nvSpPr>
          <p:spPr>
            <a:xfrm>
              <a:off x="0" y="46944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Group 277" descr=""/>
          <p:cNvPicPr/>
          <p:nvPr/>
        </p:nvPicPr>
        <p:blipFill>
          <a:blip r:embed="rId2"/>
          <a:stretch/>
        </p:blipFill>
        <p:spPr>
          <a:xfrm>
            <a:off x="360360" y="5005440"/>
            <a:ext cx="992160" cy="1066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2CE66-CDFC-4588-B363-0355DDE079F8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208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209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Straight Connector 13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548BA-F05C-4B5F-B5CD-A45756599CE0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0" y="1143000"/>
            <a:ext cx="9144000" cy="120600"/>
            <a:chOff x="0" y="1143000"/>
            <a:chExt cx="9144000" cy="120600"/>
          </a:xfrm>
        </p:grpSpPr>
        <p:sp>
          <p:nvSpPr>
            <p:cNvPr id="257" name="Straight Connector 11"/>
            <p:cNvSpPr/>
            <p:nvPr/>
          </p:nvSpPr>
          <p:spPr>
            <a:xfrm>
              <a:off x="0" y="11430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Straight Connector 12"/>
            <p:cNvSpPr/>
            <p:nvPr/>
          </p:nvSpPr>
          <p:spPr>
            <a:xfrm>
              <a:off x="0" y="11984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Straight Connector 13"/>
            <p:cNvSpPr/>
            <p:nvPr/>
          </p:nvSpPr>
          <p:spPr>
            <a:xfrm>
              <a:off x="0" y="1262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Group 277" descr=""/>
          <p:cNvPicPr/>
          <p:nvPr/>
        </p:nvPicPr>
        <p:blipFill>
          <a:blip r:embed="rId2"/>
          <a:stretch/>
        </p:blipFill>
        <p:spPr>
          <a:xfrm>
            <a:off x="285840" y="14616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DFA30-5E38-47EF-B3B1-F3110E24C2ED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05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06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01DC8-DBBE-4A87-979B-63712C0767F1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0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54" name="Freeform 11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5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Rectangle 12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071C8-F69B-4280-B041-C3ED7CA6959F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9144000" cy="13906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0" y="1380960"/>
            <a:ext cx="9144000" cy="120960"/>
            <a:chOff x="0" y="1380960"/>
            <a:chExt cx="9144000" cy="120960"/>
          </a:xfrm>
        </p:grpSpPr>
        <p:sp>
          <p:nvSpPr>
            <p:cNvPr id="402" name="Straight Connector 8"/>
            <p:cNvSpPr/>
            <p:nvPr/>
          </p:nvSpPr>
          <p:spPr>
            <a:xfrm>
              <a:off x="0" y="13809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Straight Connector 9"/>
            <p:cNvSpPr/>
            <p:nvPr/>
          </p:nvSpPr>
          <p:spPr>
            <a:xfrm>
              <a:off x="0" y="14367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Straight Connector 10"/>
            <p:cNvSpPr/>
            <p:nvPr/>
          </p:nvSpPr>
          <p:spPr>
            <a:xfrm>
              <a:off x="0" y="15004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A35B2-CE56-4FE2-B992-5264FBD0C0E6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2998440"/>
            <a:ext cx="629136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굴림"/>
              </a:rPr>
              <a:t>KORN 102-0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1499760" y="4856040"/>
            <a:ext cx="698508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LESSON 1 </a:t>
            </a: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안녕하십니까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8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: ___________(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으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십니까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___________(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보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읽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운동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잡수시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먹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주무시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자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으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십시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타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기다리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읽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앉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잡수시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숙제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ssignment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Terminate the following verbs with declarative, interrogative, and imperative end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굴림"/>
              </a:rPr>
              <a:t>읽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굴림"/>
              </a:rPr>
              <a:t>보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굴림"/>
              </a:rPr>
              <a:t>입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굴림"/>
              </a:rPr>
              <a:t>먹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굴림"/>
              </a:rPr>
              <a:t>쓰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660066"/>
                </a:solidFill>
                <a:latin typeface="Corbel"/>
                <a:ea typeface="굴림"/>
              </a:rPr>
              <a:t>제임스</a:t>
            </a:r>
            <a:r>
              <a:rPr b="0" lang="en-US" sz="30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000" spc="-1" strike="noStrike">
                <a:solidFill>
                  <a:srgbClr val="660066"/>
                </a:solidFill>
                <a:latin typeface="Corbel"/>
                <a:ea typeface="굴림"/>
              </a:rPr>
              <a:t>안녕하십니까</a:t>
            </a:r>
            <a:r>
              <a:rPr b="0" lang="en-US" sz="30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0066"/>
                </a:solidFill>
                <a:latin typeface="Corbel"/>
                <a:ea typeface="굴림"/>
              </a:rPr>
              <a:t> </a:t>
            </a:r>
            <a:r>
              <a:rPr b="0" lang="ko-KR" sz="2600" spc="-1" strike="noStrike">
                <a:solidFill>
                  <a:srgbClr val="ff0000"/>
                </a:solidFill>
                <a:latin typeface="Corbel"/>
                <a:ea typeface="굴림"/>
              </a:rPr>
              <a:t>안녕하세요</a:t>
            </a:r>
            <a:r>
              <a:rPr b="0" lang="en-US" sz="2600" spc="-1" strike="noStrike">
                <a:solidFill>
                  <a:srgbClr val="ff0000"/>
                </a:solidFill>
                <a:latin typeface="Corbel"/>
                <a:ea typeface="굴림"/>
              </a:rPr>
              <a:t>? </a:t>
            </a:r>
            <a:r>
              <a:rPr b="0" lang="ko-KR" sz="2600" spc="-1" strike="noStrike">
                <a:solidFill>
                  <a:srgbClr val="ff0000"/>
                </a:solidFill>
                <a:latin typeface="Corbel"/>
                <a:ea typeface="굴림"/>
              </a:rPr>
              <a:t>안녕</a:t>
            </a:r>
            <a:r>
              <a:rPr b="0" lang="en-US" sz="2600" spc="-1" strike="noStrike">
                <a:solidFill>
                  <a:srgbClr val="ff0000"/>
                </a:solidFill>
                <a:latin typeface="Corbel"/>
                <a:ea typeface="굴림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8000"/>
                </a:solidFill>
                <a:latin typeface="Corbel"/>
                <a:ea typeface="굴림"/>
              </a:rPr>
              <a:t>은주</a:t>
            </a:r>
            <a:r>
              <a:rPr b="0" lang="en-US" sz="30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0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000" spc="-1" strike="noStrike">
                <a:solidFill>
                  <a:srgbClr val="008000"/>
                </a:solidFill>
                <a:latin typeface="Corbel"/>
                <a:ea typeface="굴림"/>
              </a:rPr>
              <a:t>, </a:t>
            </a:r>
            <a:r>
              <a:rPr b="0" lang="ko-KR" sz="3000" spc="-1" strike="noStrike">
                <a:solidFill>
                  <a:srgbClr val="008000"/>
                </a:solidFill>
                <a:latin typeface="Corbel"/>
                <a:ea typeface="굴림"/>
              </a:rPr>
              <a:t>안녕하십니까</a:t>
            </a:r>
            <a:r>
              <a:rPr b="0" lang="en-US" sz="3000" spc="-1" strike="noStrike">
                <a:solidFill>
                  <a:srgbClr val="008000"/>
                </a:solidFill>
                <a:latin typeface="Corbel"/>
                <a:ea typeface="굴림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660066"/>
                </a:solidFill>
                <a:latin typeface="Corbel"/>
                <a:ea typeface="굴림"/>
              </a:rPr>
              <a:t>제임스</a:t>
            </a:r>
            <a:r>
              <a:rPr b="0" lang="en-US" sz="30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000" spc="-1" strike="noStrike">
                <a:solidFill>
                  <a:srgbClr val="660066"/>
                </a:solidFill>
                <a:latin typeface="Corbel"/>
                <a:ea typeface="굴림"/>
              </a:rPr>
              <a:t>안녕히 계십시오</a:t>
            </a:r>
            <a:r>
              <a:rPr b="0" lang="en-US" sz="30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0000"/>
                </a:solidFill>
                <a:latin typeface="Corbel"/>
                <a:ea typeface="굴림"/>
              </a:rPr>
              <a:t>안녕히 계세요</a:t>
            </a:r>
            <a:r>
              <a:rPr b="0" lang="en-US" sz="2600" spc="-1" strike="noStrike">
                <a:solidFill>
                  <a:srgbClr val="ff0000"/>
                </a:solidFill>
                <a:latin typeface="Corbel"/>
                <a:ea typeface="굴림"/>
              </a:rPr>
              <a:t>. </a:t>
            </a:r>
            <a:r>
              <a:rPr b="0" lang="ko-KR" sz="2600" spc="-1" strike="noStrike">
                <a:solidFill>
                  <a:srgbClr val="ff0000"/>
                </a:solidFill>
                <a:latin typeface="Corbel"/>
                <a:ea typeface="굴림"/>
              </a:rPr>
              <a:t>안녕</a:t>
            </a:r>
            <a:r>
              <a:rPr b="0" lang="en-US" sz="2600" spc="-1" strike="noStrike">
                <a:solidFill>
                  <a:srgbClr val="ff0000"/>
                </a:solidFill>
                <a:latin typeface="Corbel"/>
                <a:ea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8000"/>
                </a:solidFill>
                <a:latin typeface="Corbel"/>
                <a:ea typeface="굴림"/>
              </a:rPr>
              <a:t>은주</a:t>
            </a:r>
            <a:r>
              <a:rPr b="0" lang="en-US" sz="30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000" spc="-1" strike="noStrike">
                <a:solidFill>
                  <a:srgbClr val="008000"/>
                </a:solidFill>
                <a:latin typeface="Corbel"/>
                <a:ea typeface="굴림"/>
              </a:rPr>
              <a:t>안녕히 가십시오</a:t>
            </a:r>
            <a:r>
              <a:rPr b="0" lang="en-US" sz="30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0000"/>
                </a:solidFill>
                <a:latin typeface="Corbel"/>
                <a:ea typeface="굴림"/>
              </a:rPr>
              <a:t>안녕히</a:t>
            </a:r>
            <a:r>
              <a:rPr b="0" lang="en-US" sz="2600" spc="-1" strike="noStrike">
                <a:solidFill>
                  <a:srgbClr val="ff0000"/>
                </a:solidFill>
                <a:latin typeface="Corbel"/>
                <a:ea typeface="굴림"/>
              </a:rPr>
              <a:t> </a:t>
            </a:r>
            <a:r>
              <a:rPr b="0" lang="ko-KR" sz="2600" spc="-1" strike="noStrike">
                <a:solidFill>
                  <a:srgbClr val="ff0000"/>
                </a:solidFill>
                <a:latin typeface="Corbel"/>
                <a:ea typeface="굴림"/>
              </a:rPr>
              <a:t>가세요</a:t>
            </a:r>
            <a:r>
              <a:rPr b="0" lang="en-US" sz="2600" spc="-1" strike="noStrike">
                <a:solidFill>
                  <a:srgbClr val="ff0000"/>
                </a:solidFill>
                <a:latin typeface="Corbel"/>
                <a:ea typeface="굴림"/>
              </a:rPr>
              <a:t>. </a:t>
            </a:r>
            <a:r>
              <a:rPr b="0" lang="ko-KR" sz="2600" spc="-1" strike="noStrike">
                <a:solidFill>
                  <a:srgbClr val="ff0000"/>
                </a:solidFill>
                <a:latin typeface="Corbel"/>
                <a:ea typeface="굴림"/>
              </a:rPr>
              <a:t>안녕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  <a:ea typeface="굴림"/>
              </a:rPr>
              <a:t>Study honorific expressions, talking up and downs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9bbb5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DIALOGUE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안녕하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be peaceful, be fine, be wel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yes (In the dialogue here, it means ‘I’m fine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안녕히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안녕하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adverb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계시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polite expression of 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있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(stay, b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가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9bbb5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종결어미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(Terminative Ending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서술형 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Declarative (</a:t>
            </a: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옵니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감습니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의문형 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Interrogative (</a:t>
            </a: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옵니까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? </a:t>
            </a: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감습니까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명령형 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Imperative (</a:t>
            </a: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오십시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감으십시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~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으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시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~ (Part of ending, honorific suffi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오십니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감으십니까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3" descr=""/>
          <p:cNvPicPr/>
          <p:nvPr/>
        </p:nvPicPr>
        <p:blipFill>
          <a:blip r:embed="rId1"/>
          <a:stretch/>
        </p:blipFill>
        <p:spPr>
          <a:xfrm>
            <a:off x="3498840" y="2133720"/>
            <a:ext cx="5400720" cy="288612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4" descr=""/>
          <p:cNvPicPr/>
          <p:nvPr/>
        </p:nvPicPr>
        <p:blipFill>
          <a:blip r:embed="rId2"/>
          <a:stretch/>
        </p:blipFill>
        <p:spPr>
          <a:xfrm>
            <a:off x="233280" y="285840"/>
            <a:ext cx="4343400" cy="2095560"/>
          </a:xfrm>
          <a:prstGeom prst="rect">
            <a:avLst/>
          </a:prstGeom>
          <a:ln w="0">
            <a:noFill/>
          </a:ln>
        </p:spPr>
      </p:pic>
      <p:sp>
        <p:nvSpPr>
          <p:cNvPr id="505" name="직사각형 3"/>
          <p:cNvSpPr/>
          <p:nvPr/>
        </p:nvSpPr>
        <p:spPr>
          <a:xfrm>
            <a:off x="4602240" y="30492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http://classroom.re.kr/uploadfile/content/content02/second04/data03/5_3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Picture 5" descr=""/>
          <p:cNvPicPr/>
          <p:nvPr/>
        </p:nvPicPr>
        <p:blipFill>
          <a:blip r:embed="rId3"/>
          <a:stretch/>
        </p:blipFill>
        <p:spPr>
          <a:xfrm>
            <a:off x="3564000" y="5157720"/>
            <a:ext cx="4781520" cy="1533600"/>
          </a:xfrm>
          <a:prstGeom prst="rect">
            <a:avLst/>
          </a:prstGeom>
          <a:ln w="0">
            <a:noFill/>
          </a:ln>
        </p:spPr>
      </p:pic>
      <p:sp>
        <p:nvSpPr>
          <p:cNvPr id="507" name="직사각형 4"/>
          <p:cNvSpPr/>
          <p:nvPr/>
        </p:nvSpPr>
        <p:spPr>
          <a:xfrm>
            <a:off x="262080" y="5924520"/>
            <a:ext cx="3157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http://dlegongbuwarac.edupia.com/xmlPrint.aspx?did=201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 txBox="1"/>
          <p:nvPr/>
        </p:nvSpPr>
        <p:spPr>
          <a:xfrm>
            <a:off x="50328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읽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rea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사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bu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입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put on, dres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보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se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배우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lear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만나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mee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기다리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wai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주무시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sleep (h.f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자다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49892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오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com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공부하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stud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먹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e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쓰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write (bitter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마시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drink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앉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si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잡수시다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먹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e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운동하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exercis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타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ride, boar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보충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dditional 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Pattern Drill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ㅂ니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오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자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공부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입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먹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___(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ㅂ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__________(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쓰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배우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마시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먹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읽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6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으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십니까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기다리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읽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잡수시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주무시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jyu</cp:lastModifiedBy>
  <dcterms:modified xsi:type="dcterms:W3CDTF">2012-09-17T02:02:25Z</dcterms:modified>
  <cp:revision>61</cp:revision>
  <dc:subject/>
  <dc:title>KOREAN LANGUAGE</dc:title>
</cp:coreProperties>
</file>